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4AC1-E154-4499-B030-C3FA506CD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658D-4F33-4E5B-9601-29E711652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08C7-5132-4A82-8D04-9A79A64AA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5D2A-7144-4D33-B52F-F80574B5A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0926-997B-4B05-BEEB-B46253979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9696-E73A-4CA9-B556-4934FAD4A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627F-673F-494E-A05D-8943BB317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1B94-5DA4-4DD5-8510-B2F159D53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434F-3610-4066-B2AC-A21F489E4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F646-948F-4A39-AD83-6E113176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E179-9CFE-4FD0-863E-4DC045D5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905C-5B06-4952-B440-28FA9FD0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A236B-C4CE-4B0C-8F1B-16D4B760CF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7632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32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7T01:19:30Z</dcterms:created>
  <dc:creator>RDPL CLP</dc:creator>
  <dc:description/>
  <dc:language>en-US</dc:language>
  <cp:lastModifiedBy>ripkensa</cp:lastModifiedBy>
  <dcterms:modified xsi:type="dcterms:W3CDTF">2009-10-18T18:08:41Z</dcterms:modified>
  <cp:revision>2</cp:revision>
  <dc:subject/>
  <dc:title>PowerPoint Presentation</dc:title>
</cp:coreProperties>
</file>